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1E40-4578-4198-A6C3-4C8C0504A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urlz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4C67-8125-4763-8C7B-23F32711F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urlz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BB6D-016E-4F89-97BE-93FFEC1F3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urlz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B18C-5C11-4833-83FE-72AF80183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urlz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049F-6B6E-4D32-92D4-A2A3F527F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urlz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A59B-0F1C-4C2A-9B5D-12E60DE91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urlz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6B40-F3BB-464C-99FB-78E44FFEE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A59E-BD5D-4A0C-9189-F4D7F8BA7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A46F-CE6F-4CE0-8165-8A4BD09A0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urlz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1DAA-ED33-45A1-9A23-F55A1A5C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urlz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2274-A08F-4FE6-8616-FB2BE5AC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urlz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A3DB-6B66-4D2D-8B03-8D2E33BE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ff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urlz M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urlz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urlz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urlz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urlz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urlz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urlz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9F027-0B89-462A-99F0-073597DC3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ff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 rot="20606400">
            <a:off x="428760" y="13806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urlz MT"/>
              </a:rPr>
              <a:t>Do You Cry?</a:t>
            </a:r>
            <a:endParaRPr b="0" lang="en-US" sz="9600" spc="-1" strike="noStrike">
              <a:solidFill>
                <a:srgbClr val="000000"/>
              </a:solidFill>
              <a:latin typeface="Curlz MT"/>
            </a:endParaRPr>
          </a:p>
        </p:txBody>
      </p:sp>
      <p:pic>
        <p:nvPicPr>
          <p:cNvPr id="42" name="Picture 6" descr="DSCN4827.JPG"/>
          <p:cNvPicPr/>
          <p:nvPr/>
        </p:nvPicPr>
        <p:blipFill>
          <a:blip r:embed="rId1"/>
          <a:stretch/>
        </p:blipFill>
        <p:spPr>
          <a:xfrm rot="21131400">
            <a:off x="4117680" y="3112560"/>
            <a:ext cx="337824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ff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urlz MT"/>
              </a:rPr>
              <a:t>Thanks!</a:t>
            </a:r>
            <a:endParaRPr b="0" lang="en-US" sz="4400" spc="-1" strike="noStrike">
              <a:solidFill>
                <a:srgbClr val="000000"/>
              </a:solidFill>
              <a:latin typeface="Curlz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Thanks to Mrs. Riffel for letting us have class time to work on our project. Also thanks to my mom for buying my materials. </a:t>
            </a: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</p:txBody>
      </p:sp>
      <p:pic>
        <p:nvPicPr>
          <p:cNvPr id="65" name="Picture 5" descr="DSCN4831.JPG"/>
          <p:cNvPicPr/>
          <p:nvPr/>
        </p:nvPicPr>
        <p:blipFill>
          <a:blip r:embed="rId1"/>
          <a:stretch/>
        </p:blipFill>
        <p:spPr>
          <a:xfrm rot="20469000">
            <a:off x="5040000" y="3598920"/>
            <a:ext cx="3352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ff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urlz MT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Curlz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Does chilling an onion make it so that you don’t cry?</a:t>
            </a: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</p:txBody>
      </p:sp>
      <p:pic>
        <p:nvPicPr>
          <p:cNvPr id="45" name="Picture 5" descr="DSCN4832.JPG"/>
          <p:cNvPicPr/>
          <p:nvPr/>
        </p:nvPicPr>
        <p:blipFill>
          <a:blip r:embed="rId1"/>
          <a:stretch/>
        </p:blipFill>
        <p:spPr>
          <a:xfrm rot="1334400">
            <a:off x="4749480" y="3403440"/>
            <a:ext cx="31496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ff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urlz MT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Curlz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I think that it will, because the vapors in the onion are cooled down. </a:t>
            </a: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ff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urlz MT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Curlz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2 onions (one chilled, one unchilled)</a:t>
            </a: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Stopwatch</a:t>
            </a: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Paper/Pencil</a:t>
            </a: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My Family</a:t>
            </a: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</p:txBody>
      </p:sp>
      <p:pic>
        <p:nvPicPr>
          <p:cNvPr id="50" name="Picture 5" descr="DSCN4829.JPG"/>
          <p:cNvPicPr/>
          <p:nvPr/>
        </p:nvPicPr>
        <p:blipFill>
          <a:blip r:embed="rId1"/>
          <a:stretch/>
        </p:blipFill>
        <p:spPr>
          <a:xfrm rot="20255400">
            <a:off x="5105160" y="3809520"/>
            <a:ext cx="2971800" cy="22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ff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urlz MT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Curlz M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Gather all materials</a:t>
            </a: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Buy two onions from the store</a:t>
            </a: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Put one in the fridge, and leave one out</a:t>
            </a: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Test the Unchilled onion</a:t>
            </a: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Test the Chilled onion</a:t>
            </a: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</p:txBody>
      </p:sp>
      <p:pic>
        <p:nvPicPr>
          <p:cNvPr id="53" name="Picture 3" descr="DSCN4828.JPG"/>
          <p:cNvPicPr/>
          <p:nvPr/>
        </p:nvPicPr>
        <p:blipFill>
          <a:blip r:embed="rId1"/>
          <a:stretch/>
        </p:blipFill>
        <p:spPr>
          <a:xfrm rot="1218600">
            <a:off x="5638320" y="4190760"/>
            <a:ext cx="24386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ff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urlz MT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urlz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Variable:</a:t>
            </a: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Same onions</a:t>
            </a: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Same refrigerator </a:t>
            </a: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Dependant Variable:</a:t>
            </a: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Whether or not they cry</a:t>
            </a: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Independent Variable:</a:t>
            </a: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Chilled or Unchilled</a:t>
            </a: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ff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urlz MT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urlz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Unchilled:</a:t>
            </a: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Dad- Chopped for 35 seconds and eyes were burning </a:t>
            </a: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Mom- Chopped for 35 seconds and eyes were burning, at 52 seconds she was crying</a:t>
            </a: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Kash- Chopped for 3 minutes and had no burning or crying</a:t>
            </a: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Myself- Instantly burned, cried at 45 seconds</a:t>
            </a: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ff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urlz MT"/>
              </a:rPr>
              <a:t>Results (continued)</a:t>
            </a:r>
            <a:endParaRPr b="0" lang="en-US" sz="4400" spc="-1" strike="noStrike">
              <a:solidFill>
                <a:srgbClr val="000000"/>
              </a:solidFill>
              <a:latin typeface="Curlz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urlz MT"/>
              </a:rPr>
              <a:t>Chilled:</a:t>
            </a:r>
            <a:endParaRPr b="0" lang="en-US" sz="2800" spc="-1" strike="noStrike">
              <a:solidFill>
                <a:srgbClr val="000000"/>
              </a:solidFill>
              <a:latin typeface="Curlz MT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urlz MT"/>
              </a:rPr>
              <a:t>Dad- Chopped for 42 seconds and eyes were burning, at 1 minute 17 seconds started crying</a:t>
            </a:r>
            <a:endParaRPr b="0" lang="en-US" sz="2800" spc="-1" strike="noStrike">
              <a:solidFill>
                <a:srgbClr val="000000"/>
              </a:solidFill>
              <a:latin typeface="Curlz MT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urlz MT"/>
              </a:rPr>
              <a:t>Mom- Chopped for 53 seconds and eyes were burning, at 1 minute 17 seconds started crying</a:t>
            </a:r>
            <a:endParaRPr b="0" lang="en-US" sz="2800" spc="-1" strike="noStrike">
              <a:solidFill>
                <a:srgbClr val="000000"/>
              </a:solidFill>
              <a:latin typeface="Curlz MT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urlz MT"/>
              </a:rPr>
              <a:t>Kash- Chopped for 2 minutes and had no irritation</a:t>
            </a:r>
            <a:endParaRPr b="0" lang="en-US" sz="2800" spc="-1" strike="noStrike">
              <a:solidFill>
                <a:srgbClr val="000000"/>
              </a:solidFill>
              <a:latin typeface="Curlz MT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urlz MT"/>
              </a:rPr>
              <a:t>Myself- Chopped for 30 seconds and at 45 seconds started crying</a:t>
            </a:r>
            <a:endParaRPr b="0" lang="en-US" sz="2800" spc="-1" strike="noStrike">
              <a:solidFill>
                <a:srgbClr val="000000"/>
              </a:solidFill>
              <a:latin typeface="Curlz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ff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urlz MT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urlz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In conclusion my hypothesis was correct! Chilling the onion did help, by a bit. I think that it is because of the vapors and how they get cooled down. Then they don’t irratate the eyes as much. </a:t>
            </a:r>
            <a:endParaRPr b="0" lang="en-US" sz="3200" spc="-1" strike="noStrike">
              <a:solidFill>
                <a:srgbClr val="000000"/>
              </a:solidFill>
              <a:latin typeface="Curlz MT"/>
            </a:endParaRPr>
          </a:p>
        </p:txBody>
      </p:sp>
      <p:pic>
        <p:nvPicPr>
          <p:cNvPr id="62" name="Picture 5" descr="DSCN4830.JPG"/>
          <p:cNvPicPr/>
          <p:nvPr/>
        </p:nvPicPr>
        <p:blipFill>
          <a:blip r:embed="rId1"/>
          <a:stretch/>
        </p:blipFill>
        <p:spPr>
          <a:xfrm rot="875400">
            <a:off x="5847840" y="4189320"/>
            <a:ext cx="266724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6:44:51Z</dcterms:created>
  <dc:creator>USD376</dc:creator>
  <dc:description/>
  <dc:language>en-US</dc:language>
  <cp:lastModifiedBy>USD376</cp:lastModifiedBy>
  <dcterms:modified xsi:type="dcterms:W3CDTF">2010-02-10T17:06:45Z</dcterms:modified>
  <cp:revision>9</cp:revision>
  <dc:subject/>
  <dc:title>Do You Cry?</dc:title>
</cp:coreProperties>
</file>